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wmf" ContentType="image/x-wmf"/>
  <Override PartName="/ppt/media/image11.png" ContentType="image/png"/>
  <Override PartName="/ppt/media/image3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0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8-08-25T10:51:05.761000000" idx="1">
    <p:pos x="3037" y="829"/>
    <p:text/>
  </p:cm>
</p:cmLst>
</file>

<file path=ppt/comments/comment15.xml><?xml version="1.0" encoding="utf-8"?>
<p:cmLst xmlns:p="http://schemas.openxmlformats.org/presentationml/2006/main">
  <p:cm authorId="0" dt="2018-08-25T10:51:09.888000000" idx="2">
    <p:pos x="3629" y="185"/>
    <p:text/>
  </p:cm>
</p:cmLst>
</file>

<file path=ppt/comments/comment18.xml><?xml version="1.0" encoding="utf-8"?>
<p:cmLst xmlns:p="http://schemas.openxmlformats.org/presentationml/2006/main">
  <p:cm authorId="0" dt="2018-08-25T10:51:14.112000000" idx="3">
    <p:pos x="3043" y="17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BA6-2D06-4FBF-9E93-A16BD259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A0B-2D60-45ED-869C-EEEBE2B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2CE-DDD7-4B69-A99F-85F5BD56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8AF-0050-468E-9E56-43704EEA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0748-60CB-47B0-8CFF-E5319FAA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81AF-DA8A-49EE-90EE-935181CE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63E3-9DA5-4DE7-A48D-59CCD5C0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7FA4-777D-48E4-A3AB-38D8469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C17-7206-435A-86A4-00F1BBC9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0275-E6C1-458A-934B-CC79662D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E3A8-8157-4A4E-BE1E-829C1E85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A7E-6949-49FA-936F-D35AC68C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B906-A499-4759-A75D-98E0B52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84B-0D2B-4399-8831-839C781C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2BF-EDB0-4094-84AE-5D61867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8BC9-5AE2-4B2D-8E80-C41C95A6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EA15-0228-4758-9084-392F0017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48B-CC2A-41FE-A17D-2EFEED16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DC7-2472-4EA9-A673-76542502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999-7C6A-44E7-8C0F-120EDE2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E92-8845-4A3F-91D3-337C1277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B57-5EC4-4B8E-9CBA-C2022804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1DD-05CD-41D5-81BC-250DFF8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22A-3D98-47A3-ADF3-27747D1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9A57-C5CC-4444-9205-2F6D1F1D910B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E20D-12BA-4F7E-9DE7-1B69A96AD31A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4DE-EAE8-4B0E-85D9-9354C5643964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6824-7B75-4406-A60B-8A80A061D9A2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7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89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2"/>
          <p:cNvSpPr/>
          <p:nvPr/>
        </p:nvSpPr>
        <p:spPr>
          <a:xfrm>
            <a:off x="1779480" y="168588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 My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6"/>
          <p:cNvSpPr/>
          <p:nvPr/>
        </p:nvSpPr>
        <p:spPr>
          <a:xfrm>
            <a:off x="1647720" y="596880"/>
            <a:ext cx="3198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pull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动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拔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拉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208" name="圆角矩形 18"/>
            <p:cNvSpPr/>
            <p:nvPr/>
          </p:nvSpPr>
          <p:spPr>
            <a:xfrm>
              <a:off x="284040" y="5986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7"/>
          <a:stretch/>
        </p:blipFill>
        <p:spPr>
          <a:xfrm>
            <a:off x="4684680" y="201600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6"/>
          <p:cNvGrpSpPr/>
          <p:nvPr/>
        </p:nvGrpSpPr>
        <p:grpSpPr>
          <a:xfrm>
            <a:off x="415800" y="1322280"/>
            <a:ext cx="1062000" cy="337320"/>
            <a:chOff x="415800" y="1322280"/>
            <a:chExt cx="1062000" cy="337320"/>
          </a:xfrm>
        </p:grpSpPr>
        <p:sp>
          <p:nvSpPr>
            <p:cNvPr id="213" name="矩形 24"/>
            <p:cNvSpPr/>
            <p:nvPr/>
          </p:nvSpPr>
          <p:spPr>
            <a:xfrm>
              <a:off x="613800" y="13222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图片 18" descr=""/>
            <p:cNvPicPr/>
            <p:nvPr/>
          </p:nvPicPr>
          <p:blipFill>
            <a:blip r:embed="rId8"/>
            <a:stretch/>
          </p:blipFill>
          <p:spPr>
            <a:xfrm>
              <a:off x="415800" y="139248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矩形 21"/>
          <p:cNvSpPr/>
          <p:nvPr/>
        </p:nvSpPr>
        <p:spPr>
          <a:xfrm>
            <a:off x="1773360" y="1290600"/>
            <a:ext cx="2701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ull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up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拉上来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把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拔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6"/>
          <p:cNvGrpSpPr/>
          <p:nvPr/>
        </p:nvGrpSpPr>
        <p:grpSpPr>
          <a:xfrm>
            <a:off x="371520" y="1949400"/>
            <a:ext cx="1062000" cy="337320"/>
            <a:chOff x="371520" y="1949400"/>
            <a:chExt cx="1062000" cy="337320"/>
          </a:xfrm>
        </p:grpSpPr>
        <p:sp>
          <p:nvSpPr>
            <p:cNvPr id="217" name="矩形 24"/>
            <p:cNvSpPr/>
            <p:nvPr/>
          </p:nvSpPr>
          <p:spPr>
            <a:xfrm>
              <a:off x="569520" y="19494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2019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矩形 20"/>
          <p:cNvSpPr/>
          <p:nvPr/>
        </p:nvSpPr>
        <p:spPr>
          <a:xfrm>
            <a:off x="2105640" y="1982880"/>
            <a:ext cx="1668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can pull it up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能把它拉上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23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2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560600" y="498600"/>
            <a:ext cx="38322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come on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在此意为“快点儿”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它还可以用于鼓励别人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意为“加油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284040" y="488880"/>
            <a:ext cx="1217880" cy="307080"/>
            <a:chOff x="284040" y="488880"/>
            <a:chExt cx="1217880" cy="307080"/>
          </a:xfrm>
        </p:grpSpPr>
        <p:sp>
          <p:nvSpPr>
            <p:cNvPr id="231" name="圆角矩形 18"/>
            <p:cNvSpPr/>
            <p:nvPr/>
          </p:nvSpPr>
          <p:spPr>
            <a:xfrm>
              <a:off x="284040" y="5320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9"/>
            <p:cNvSpPr/>
            <p:nvPr/>
          </p:nvSpPr>
          <p:spPr>
            <a:xfrm>
              <a:off x="427680" y="4888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2"/>
          <p:cNvSpPr/>
          <p:nvPr/>
        </p:nvSpPr>
        <p:spPr>
          <a:xfrm>
            <a:off x="1339920" y="1422360"/>
            <a:ext cx="31240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Come on! We’ll be late!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快点儿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们要迟到了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Come on! Li Ming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加油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!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李明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371520" y="1422360"/>
            <a:ext cx="1062000" cy="337320"/>
            <a:chOff x="371520" y="1422360"/>
            <a:chExt cx="1062000" cy="337320"/>
          </a:xfrm>
        </p:grpSpPr>
        <p:sp>
          <p:nvSpPr>
            <p:cNvPr id="235" name="矩形 24"/>
            <p:cNvSpPr/>
            <p:nvPr/>
          </p:nvSpPr>
          <p:spPr>
            <a:xfrm>
              <a:off x="569520" y="1422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45980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40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4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1384200" y="498600"/>
            <a:ext cx="3984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hooray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感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好哇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万岁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欢呼声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248" name="圆角矩形 18"/>
            <p:cNvSpPr/>
            <p:nvPr/>
          </p:nvSpPr>
          <p:spPr>
            <a:xfrm>
              <a:off x="284040" y="5313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22"/>
          <p:cNvSpPr/>
          <p:nvPr/>
        </p:nvSpPr>
        <p:spPr>
          <a:xfrm>
            <a:off x="1384200" y="1224000"/>
            <a:ext cx="3124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Hooray! I’m so happy!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万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!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太高兴了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371520" y="1224000"/>
            <a:ext cx="1062000" cy="337320"/>
            <a:chOff x="371520" y="1224000"/>
            <a:chExt cx="1062000" cy="337320"/>
          </a:xfrm>
        </p:grpSpPr>
        <p:sp>
          <p:nvSpPr>
            <p:cNvPr id="252" name="矩形 24"/>
            <p:cNvSpPr/>
            <p:nvPr/>
          </p:nvSpPr>
          <p:spPr>
            <a:xfrm>
              <a:off x="569520" y="12240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2614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9"/>
          <p:cNvGrpSpPr/>
          <p:nvPr/>
        </p:nvGrpSpPr>
        <p:grpSpPr>
          <a:xfrm>
            <a:off x="328680" y="1389240"/>
            <a:ext cx="954000" cy="337320"/>
            <a:chOff x="328680" y="1389240"/>
            <a:chExt cx="954000" cy="337320"/>
          </a:xfrm>
        </p:grpSpPr>
        <p:sp>
          <p:nvSpPr>
            <p:cNvPr id="263" name="矩形 25"/>
            <p:cNvSpPr/>
            <p:nvPr/>
          </p:nvSpPr>
          <p:spPr>
            <a:xfrm>
              <a:off x="505440" y="138924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43964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12"/>
          <p:cNvGrpSpPr/>
          <p:nvPr/>
        </p:nvGrpSpPr>
        <p:grpSpPr>
          <a:xfrm>
            <a:off x="339840" y="474840"/>
            <a:ext cx="1131840" cy="307080"/>
            <a:chOff x="339840" y="474840"/>
            <a:chExt cx="1131840" cy="307080"/>
          </a:xfrm>
        </p:grpSpPr>
        <p:sp>
          <p:nvSpPr>
            <p:cNvPr id="266" name="圆角矩形 22"/>
            <p:cNvSpPr/>
            <p:nvPr/>
          </p:nvSpPr>
          <p:spPr>
            <a:xfrm>
              <a:off x="339840" y="532080"/>
              <a:ext cx="112140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19"/>
            <p:cNvSpPr/>
            <p:nvPr/>
          </p:nvSpPr>
          <p:spPr>
            <a:xfrm>
              <a:off x="396360" y="47484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It’s so big!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它好大啊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987480" y="1389240"/>
            <a:ext cx="462132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be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so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形容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She is so beautiful!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她真漂亮啊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258840" y="1251000"/>
            <a:ext cx="954000" cy="337320"/>
            <a:chOff x="258840" y="1251000"/>
            <a:chExt cx="954000" cy="337320"/>
          </a:xfrm>
        </p:grpSpPr>
        <p:sp>
          <p:nvSpPr>
            <p:cNvPr id="278" name="矩形 25"/>
            <p:cNvSpPr/>
            <p:nvPr/>
          </p:nvSpPr>
          <p:spPr>
            <a:xfrm>
              <a:off x="435600" y="125100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图片 18" descr=""/>
            <p:cNvPicPr/>
            <p:nvPr/>
          </p:nvPicPr>
          <p:blipFill>
            <a:blip r:embed="rId7"/>
            <a:stretch/>
          </p:blipFill>
          <p:spPr>
            <a:xfrm>
              <a:off x="258840" y="130140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Group 12"/>
          <p:cNvGrpSpPr/>
          <p:nvPr/>
        </p:nvGrpSpPr>
        <p:grpSpPr>
          <a:xfrm>
            <a:off x="339840" y="488880"/>
            <a:ext cx="1131840" cy="307080"/>
            <a:chOff x="339840" y="488880"/>
            <a:chExt cx="1131840" cy="307080"/>
          </a:xfrm>
        </p:grpSpPr>
        <p:sp>
          <p:nvSpPr>
            <p:cNvPr id="281" name="圆角矩形 22"/>
            <p:cNvSpPr/>
            <p:nvPr/>
          </p:nvSpPr>
          <p:spPr>
            <a:xfrm>
              <a:off x="339840" y="53208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9"/>
            <p:cNvSpPr/>
            <p:nvPr/>
          </p:nvSpPr>
          <p:spPr>
            <a:xfrm>
              <a:off x="396360" y="48888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I can’t pull it up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我拔不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1050840" y="1251000"/>
            <a:ext cx="44881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是描述某人不能做某事的句型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 can’t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not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的缩写形式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后面要接动词原形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ull …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意为“把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拉上来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把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拔出来”。代词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要放在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pull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和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up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之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主语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can’t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动词原形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其他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 can’t put it in my desk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不能把它放在书桌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You can’t help m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你不能帮助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376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角色朗读故事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30312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五人一组排练并表演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13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>
            <a:off x="592200" y="498600"/>
            <a:ext cx="440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读单词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将它们按首字母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~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z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的先后顺序抄写在四线三格线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87840" y="1080"/>
            <a:ext cx="176760" cy="1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3C01.eps" descr="id:2147499733;FounderCES"/>
          <p:cNvPicPr/>
          <p:nvPr/>
        </p:nvPicPr>
        <p:blipFill>
          <a:blip r:embed="rId7"/>
          <a:stretch/>
        </p:blipFill>
        <p:spPr>
          <a:xfrm>
            <a:off x="900000" y="1290600"/>
            <a:ext cx="3829320" cy="131940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"/>
          <p:cNvSpPr/>
          <p:nvPr/>
        </p:nvSpPr>
        <p:spPr>
          <a:xfrm>
            <a:off x="895320" y="2184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2"/>
          <p:cNvSpPr/>
          <p:nvPr/>
        </p:nvSpPr>
        <p:spPr>
          <a:xfrm>
            <a:off x="1671480" y="2184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"/>
          <p:cNvSpPr/>
          <p:nvPr/>
        </p:nvSpPr>
        <p:spPr>
          <a:xfrm>
            <a:off x="2505240" y="2184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"/>
          <p:cNvSpPr/>
          <p:nvPr/>
        </p:nvSpPr>
        <p:spPr>
          <a:xfrm>
            <a:off x="3315960" y="2184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"/>
          <p:cNvSpPr/>
          <p:nvPr/>
        </p:nvSpPr>
        <p:spPr>
          <a:xfrm>
            <a:off x="4121280" y="218448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29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1"/>
          <p:cNvSpPr/>
          <p:nvPr/>
        </p:nvSpPr>
        <p:spPr>
          <a:xfrm>
            <a:off x="592200" y="498600"/>
            <a:ext cx="4400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观察丹尼手中的气球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把表示同类单词的气球涂成相同的颜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C12.eps" descr="id:2147499810;FounderCES"/>
          <p:cNvPicPr/>
          <p:nvPr/>
        </p:nvPicPr>
        <p:blipFill>
          <a:blip r:embed="rId7"/>
          <a:stretch/>
        </p:blipFill>
        <p:spPr>
          <a:xfrm>
            <a:off x="1515960" y="1058760"/>
            <a:ext cx="2116080" cy="1795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7" descr="grass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36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460440" y="1521000"/>
            <a:ext cx="37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42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92280" y="1884240"/>
            <a:ext cx="33670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It’s so big!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它好大啊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I can’t pull it up.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我拔不出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"/>
          <p:cNvSpPr/>
          <p:nvPr/>
        </p:nvSpPr>
        <p:spPr>
          <a:xfrm>
            <a:off x="903240" y="735120"/>
            <a:ext cx="431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如此，那么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o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ull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拔，拉，拖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e  on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快点儿，加油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oray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好哇，万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895-2264-4535-9B04-00C0DBDE0A3F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0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1065240" y="642960"/>
            <a:ext cx="34909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教师说指令，学生做相应的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yourself t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 Tall, tall, t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yourself sh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 Short ,short, sh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yourself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 Strong, strong, st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4" descr="homework2"/>
          <p:cNvPicPr/>
          <p:nvPr/>
        </p:nvPicPr>
        <p:blipFill>
          <a:blip r:embed="rId1"/>
          <a:stretch/>
        </p:blipFill>
        <p:spPr>
          <a:xfrm>
            <a:off x="0" y="398520"/>
            <a:ext cx="5581800" cy="2547720"/>
          </a:xfrm>
          <a:prstGeom prst="rect">
            <a:avLst/>
          </a:prstGeom>
          <a:ln w="0">
            <a:noFill/>
          </a:ln>
        </p:spPr>
      </p:pic>
      <p:sp>
        <p:nvSpPr>
          <p:cNvPr id="34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E781-7BE3-4DED-B5C3-011017E776A0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50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328680" y="1290600"/>
            <a:ext cx="25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把本课故事表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Comic Sans MS"/>
              </a:rPr>
              <a:t>给家长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356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2" descr="homework"/>
          <p:cNvPicPr/>
          <p:nvPr/>
        </p:nvPicPr>
        <p:blipFill>
          <a:blip r:embed="rId8"/>
          <a:stretch/>
        </p:blipFill>
        <p:spPr>
          <a:xfrm>
            <a:off x="1297080" y="563400"/>
            <a:ext cx="2543040" cy="489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讲故事"/>
          <p:cNvPicPr/>
          <p:nvPr/>
        </p:nvPicPr>
        <p:blipFill>
          <a:blip r:embed="rId9"/>
          <a:stretch/>
        </p:blipFill>
        <p:spPr>
          <a:xfrm>
            <a:off x="2705040" y="993600"/>
            <a:ext cx="3056040" cy="1791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364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367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4A70-1940-41B4-87F0-025A8E38C28A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1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" descr="teacher"/>
          <p:cNvPicPr/>
          <p:nvPr/>
        </p:nvPicPr>
        <p:blipFill>
          <a:blip r:embed="rId8"/>
          <a:stretch/>
        </p:blipFill>
        <p:spPr>
          <a:xfrm>
            <a:off x="0" y="2181240"/>
            <a:ext cx="1208160" cy="75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Zoom"/>
          <p:cNvPicPr/>
          <p:nvPr/>
        </p:nvPicPr>
        <p:blipFill>
          <a:blip r:embed="rId9"/>
          <a:stretch/>
        </p:blipFill>
        <p:spPr>
          <a:xfrm>
            <a:off x="460440" y="431640"/>
            <a:ext cx="2128680" cy="119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Zip"/>
          <p:cNvPicPr/>
          <p:nvPr/>
        </p:nvPicPr>
        <p:blipFill>
          <a:blip r:embed="rId10"/>
          <a:stretch/>
        </p:blipFill>
        <p:spPr>
          <a:xfrm>
            <a:off x="3144960" y="498600"/>
            <a:ext cx="1904760" cy="1224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18"/>
          <p:cNvSpPr/>
          <p:nvPr/>
        </p:nvSpPr>
        <p:spPr>
          <a:xfrm>
            <a:off x="886320" y="2016000"/>
            <a:ext cx="3107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oom                                     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12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2597040" y="166356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Story time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13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3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9"/>
          <a:stretch/>
        </p:blipFill>
        <p:spPr>
          <a:xfrm>
            <a:off x="547560" y="795240"/>
            <a:ext cx="4284720" cy="155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8"/>
          <a:stretch/>
        </p:blipFill>
        <p:spPr>
          <a:xfrm>
            <a:off x="328680" y="398520"/>
            <a:ext cx="5207040" cy="2079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8"/>
          <a:stretch/>
        </p:blipFill>
        <p:spPr>
          <a:xfrm>
            <a:off x="239760" y="596880"/>
            <a:ext cx="5060880" cy="161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162" name="矩形 6"/>
          <p:cNvSpPr/>
          <p:nvPr/>
        </p:nvSpPr>
        <p:spPr>
          <a:xfrm>
            <a:off x="1560600" y="530280"/>
            <a:ext cx="3168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o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如此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那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168" name="圆角矩形 18"/>
            <p:cNvSpPr/>
            <p:nvPr/>
          </p:nvSpPr>
          <p:spPr>
            <a:xfrm>
              <a:off x="284040" y="59796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460440" y="1125360"/>
            <a:ext cx="1628640" cy="337320"/>
            <a:chOff x="460440" y="1125360"/>
            <a:chExt cx="1628640" cy="337320"/>
          </a:xfrm>
        </p:grpSpPr>
        <p:sp>
          <p:nvSpPr>
            <p:cNvPr id="171" name="矩形 24"/>
            <p:cNvSpPr/>
            <p:nvPr/>
          </p:nvSpPr>
          <p:spPr>
            <a:xfrm>
              <a:off x="816480" y="1125360"/>
              <a:ext cx="12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图片 18" descr=""/>
            <p:cNvPicPr/>
            <p:nvPr/>
          </p:nvPicPr>
          <p:blipFill>
            <a:blip r:embed="rId7"/>
            <a:stretch/>
          </p:blipFill>
          <p:spPr>
            <a:xfrm>
              <a:off x="460440" y="1158120"/>
              <a:ext cx="284400" cy="16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1913040" y="1719360"/>
            <a:ext cx="1539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8"/>
          <a:stretch/>
        </p:blipFill>
        <p:spPr>
          <a:xfrm>
            <a:off x="4421160" y="2346480"/>
            <a:ext cx="838080" cy="726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26"/>
          <p:cNvSpPr/>
          <p:nvPr/>
        </p:nvSpPr>
        <p:spPr>
          <a:xfrm>
            <a:off x="1839960" y="1125360"/>
            <a:ext cx="1800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 beautiful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如此漂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460440" y="1685880"/>
            <a:ext cx="1628640" cy="337320"/>
            <a:chOff x="460440" y="1685880"/>
            <a:chExt cx="1628640" cy="337320"/>
          </a:xfrm>
        </p:grpSpPr>
        <p:sp>
          <p:nvSpPr>
            <p:cNvPr id="178" name="矩形 24"/>
            <p:cNvSpPr/>
            <p:nvPr/>
          </p:nvSpPr>
          <p:spPr>
            <a:xfrm>
              <a:off x="816480" y="1685880"/>
              <a:ext cx="12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同义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718640"/>
              <a:ext cx="284400" cy="164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0"/>
          <p:cNvGrpSpPr/>
          <p:nvPr/>
        </p:nvGrpSpPr>
        <p:grpSpPr>
          <a:xfrm>
            <a:off x="284040" y="555480"/>
            <a:ext cx="1217880" cy="307080"/>
            <a:chOff x="284040" y="555480"/>
            <a:chExt cx="1217880" cy="307080"/>
          </a:xfrm>
        </p:grpSpPr>
        <p:sp>
          <p:nvSpPr>
            <p:cNvPr id="187" name="圆角矩形 18"/>
            <p:cNvSpPr/>
            <p:nvPr/>
          </p:nvSpPr>
          <p:spPr>
            <a:xfrm>
              <a:off x="284040" y="598680"/>
              <a:ext cx="112032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19"/>
            <p:cNvSpPr/>
            <p:nvPr/>
          </p:nvSpPr>
          <p:spPr>
            <a:xfrm>
              <a:off x="427680" y="5554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7"/>
          <a:stretch/>
        </p:blipFill>
        <p:spPr>
          <a:xfrm>
            <a:off x="4421160" y="2346480"/>
            <a:ext cx="838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3"/>
          <p:cNvGrpSpPr/>
          <p:nvPr/>
        </p:nvGrpSpPr>
        <p:grpSpPr>
          <a:xfrm>
            <a:off x="415800" y="1676520"/>
            <a:ext cx="1278000" cy="337320"/>
            <a:chOff x="415800" y="1676520"/>
            <a:chExt cx="1278000" cy="337320"/>
          </a:xfrm>
        </p:grpSpPr>
        <p:sp>
          <p:nvSpPr>
            <p:cNvPr id="192" name="矩形 17"/>
            <p:cNvSpPr/>
            <p:nvPr/>
          </p:nvSpPr>
          <p:spPr>
            <a:xfrm>
              <a:off x="613800" y="167652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图片 18" descr=""/>
            <p:cNvPicPr/>
            <p:nvPr/>
          </p:nvPicPr>
          <p:blipFill>
            <a:blip r:embed="rId8"/>
            <a:stretch/>
          </p:blipFill>
          <p:spPr>
            <a:xfrm>
              <a:off x="415800" y="17258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24"/>
          <p:cNvSpPr/>
          <p:nvPr/>
        </p:nvSpPr>
        <p:spPr>
          <a:xfrm>
            <a:off x="1515960" y="1676520"/>
            <a:ext cx="3432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oo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还有“也”的意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ice to meet you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见到你很高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Nice to meet you, too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见到你也很高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460440" y="1224000"/>
            <a:ext cx="1106280" cy="337320"/>
            <a:chOff x="460440" y="1224000"/>
            <a:chExt cx="1106280" cy="337320"/>
          </a:xfrm>
        </p:grpSpPr>
        <p:sp>
          <p:nvSpPr>
            <p:cNvPr id="196" name="矩形 24"/>
            <p:cNvSpPr/>
            <p:nvPr/>
          </p:nvSpPr>
          <p:spPr>
            <a:xfrm>
              <a:off x="702360" y="1224000"/>
              <a:ext cx="8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图片 18" descr=""/>
            <p:cNvPicPr/>
            <p:nvPr/>
          </p:nvPicPr>
          <p:blipFill>
            <a:blip r:embed="rId9"/>
            <a:stretch/>
          </p:blipFill>
          <p:spPr>
            <a:xfrm>
              <a:off x="460440" y="12567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矩形 25"/>
          <p:cNvSpPr/>
          <p:nvPr/>
        </p:nvSpPr>
        <p:spPr>
          <a:xfrm>
            <a:off x="1769040" y="630360"/>
            <a:ext cx="1398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. too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副词</a:t>
            </a:r>
            <a:r>
              <a:rPr b="1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1669680" y="1257480"/>
            <a:ext cx="286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o small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太小了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o thi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太瘦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1:22Z</dcterms:modified>
  <cp:revision>123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